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A20-9928-439F-A860-2FF5BED0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FF3-E2C5-4A56-B90C-E05F67B3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006-1A01-4839-A912-B34C9FBA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154-A35A-4F53-A4F3-B243D376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5DA-B649-4B26-8959-53026303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5F3-00B2-4043-86B2-0E9F405F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48E4-3A66-467B-87CD-D2C50BA7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FC7-6B8E-499D-845F-D91F88FF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1CE-C81F-4BB7-B999-C75BF8FF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D20-CEE7-4DA0-AF38-532F18BE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C73-CA18-4A6D-8EA0-E1C988D4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FA3-516D-4559-84E4-6DEAE99A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7124-7E78-47E6-9CE8-159490E2B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508720" y="1827720"/>
            <a:ext cx="3635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  <a:ea typeface="华文新魏"/>
              </a:rPr>
              <a:t>《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华文新魏"/>
              </a:rPr>
              <a:t>乐游原</a:t>
            </a:r>
            <a:r>
              <a:rPr b="1" lang="en-US" sz="5400" spc="-1" strike="noStrike">
                <a:solidFill>
                  <a:srgbClr val="0066ff"/>
                </a:solidFill>
                <a:latin typeface="Arial"/>
                <a:ea typeface="华文新魏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李商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向晚意不适，驱车登古原。夕阳无限好，只是近黄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abJUocB"/>
          <p:cNvPicPr/>
          <p:nvPr/>
        </p:nvPicPr>
        <p:blipFill>
          <a:blip r:embed="rId1"/>
          <a:stretch/>
        </p:blipFill>
        <p:spPr>
          <a:xfrm>
            <a:off x="0" y="0"/>
            <a:ext cx="5288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400"/>
                            </p:stCondLst>
                            <p:childTnLst>
                              <p:par>
                                <p:cTn id="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60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dc42940f2rycdn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574560" y="2421000"/>
            <a:ext cx="85694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ahoma"/>
                <a:ea typeface="华文行楷"/>
              </a:rPr>
              <a:t>颜色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行楷"/>
              </a:rPr>
              <a:t>是那样</a:t>
            </a:r>
            <a:r>
              <a:rPr b="1" lang="zh-CN" sz="4800" spc="-1" strike="noStrike" u="sng">
                <a:solidFill>
                  <a:srgbClr val="3333ff"/>
                </a:solidFill>
                <a:uFillTx/>
                <a:latin typeface="Tahoma"/>
                <a:ea typeface="华文行楷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行楷"/>
              </a:rPr>
              <a:t>    </a:t>
            </a:r>
            <a:r>
              <a:rPr b="1" lang="zh-CN" sz="4800" spc="-1" strike="noStrike" u="sng">
                <a:solidFill>
                  <a:srgbClr val="3333ff"/>
                </a:solidFill>
                <a:uFillTx/>
                <a:latin typeface="Tahoma"/>
                <a:ea typeface="华文行楷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行楷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203640" y="4437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771640" y="4365720"/>
            <a:ext cx="151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492360" y="2565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深黄    、殷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00761594612654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79280" y="4827600"/>
            <a:ext cx="89647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行楷"/>
              </a:rPr>
              <a:t>你会发现背后的天空中现出神秘的蓝灰色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ahoma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行楷"/>
              </a:rPr>
              <a:t>，暗弧外面还镶有明显的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ahoma"/>
                <a:ea typeface="华文行楷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596360" y="486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暗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284720" y="544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亮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zi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0" y="4797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而在暗弧和亮弧上升的同时，西方的天空还会出现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随着太阳的坠落，紫光下移，接近地平线时才消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700360" y="537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迷人的紫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bi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26028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它缓缓坠落，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接近地平线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竟缩身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3333ff"/>
                </a:solidFill>
                <a:uFillTx/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775640" y="260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变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落日8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50920" y="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太阳静静地躺在西方地平线上 ，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得如此之 </a:t>
            </a:r>
            <a:r>
              <a:rPr b="1" lang="zh-CN" sz="6000" spc="-1" strike="noStrike" u="sng">
                <a:solidFill>
                  <a:srgbClr val="ff0066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987640" y="907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5280" y="304920"/>
          <a:ext cx="8497800" cy="5727600"/>
        </p:xfrm>
        <a:graphic>
          <a:graphicData uri="http://schemas.openxmlformats.org/drawingml/2006/table">
            <a:tbl>
              <a:tblPr/>
              <a:tblGrid>
                <a:gridCol w="3005280"/>
                <a:gridCol w="54925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落时的幻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产生幻觉的原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颜色深黄、殷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神秘的暗弧，暗弧外面有亮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西方天空出现迷人的紫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接近地平线时太阳变扁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太阳变大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6"/>
          <p:cNvSpPr/>
          <p:nvPr/>
        </p:nvSpPr>
        <p:spPr>
          <a:xfrm>
            <a:off x="4353480" y="1023840"/>
            <a:ext cx="22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光线散射和光波长短原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3564000" y="1887480"/>
            <a:ext cx="5040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地球表面和大气层的弯曲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地球影子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大气层密度不同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光线散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4179600" y="2895480"/>
            <a:ext cx="1540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眼睛的叠合效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4395600" y="3760920"/>
            <a:ext cx="1540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光线折射的原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3564000" y="5129280"/>
            <a:ext cx="4537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未说明原因，各种仪器观察证明其实并没有真的变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从表格来看，文章的说明顺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189000" y="2276640"/>
            <a:ext cx="8343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</a:t>
            </a:r>
            <a:r>
              <a:rPr b="1" lang="zh-CN" sz="54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由现象到本质的逻辑顺序</a:t>
            </a:r>
            <a:endParaRPr b="1" lang="en-US" sz="5400" spc="1" strike="noStrike">
              <a:ln w="19080">
                <a:solidFill>
                  <a:srgbClr val="ffff99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整体把握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为什么人们喜欢观赏日出，而很少有人去流连观赏日落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62120" y="2590920"/>
            <a:ext cx="39621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主要是感情上的原因，夕阳总让人联想到人的死亡或事物的没落，让人感到美好的事物只有短暂的存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U_3513~1"/>
          <p:cNvPicPr/>
          <p:nvPr/>
        </p:nvPicPr>
        <p:blipFill>
          <a:blip r:embed="rId1"/>
          <a:stretch/>
        </p:blipFill>
        <p:spPr>
          <a:xfrm>
            <a:off x="5029200" y="2286000"/>
            <a:ext cx="41148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课文的前三段和后四段是什么关系？请简要阐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32004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前三段主要写日落时壮观、绮丽的景象，并说明这些景象只是人们的一种幻觉而已；后四段具体分析产生每种幻觉景象的原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2286000" y="160020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总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5943600" y="160020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分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962520" y="1752480"/>
            <a:ext cx="1523880" cy="609840"/>
          </a:xfrm>
          <a:prstGeom prst="rightArrow">
            <a:avLst>
              <a:gd name="adj1" fmla="val 50000"/>
              <a:gd name="adj2" fmla="val 62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读了这篇课文，你获得了什么样的启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方正姚体"/>
              </a:rPr>
              <a:t>本文是一篇科普文章，用科学的语言解释了人们眼中美丽的落日其实是一种幻觉，启发人们要用科学的精神对待周围的一切，在这个世俗的当下，让每一个人都能够扬起思考的头颅，求一切事物之实、求一切事物之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3"/>
          <p:cNvSpPr txBox="1"/>
          <p:nvPr/>
        </p:nvSpPr>
        <p:spPr>
          <a:xfrm>
            <a:off x="1600200" y="609480"/>
            <a:ext cx="58672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落日的幻觉</a:t>
            </a:r>
            <a:endParaRPr b="1" lang="en-US" sz="72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438280" y="403848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从文中找出你认为最生动、最精美的语言，细细品味一下，先在小组内分享，然后再说给全班同学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人们都喜爱观赏日出，无不赞叹太阳升起时的壮观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无不”双重否定，强调了人们的赞叹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99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它缓缓坠落，接近地平线时竟缩身变扁。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运用拟人的修辞，形象地说明了落日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0"/>
            <a:ext cx="23619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疑难解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本文用大篇幅描写落日时的景象有什么作用？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U_1249~1"/>
          <p:cNvPicPr/>
          <p:nvPr/>
        </p:nvPicPr>
        <p:blipFill>
          <a:blip r:embed="rId1"/>
          <a:stretch/>
        </p:blipFill>
        <p:spPr>
          <a:xfrm>
            <a:off x="0" y="182880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U_3937~1"/>
          <p:cNvPicPr/>
          <p:nvPr/>
        </p:nvPicPr>
        <p:blipFill>
          <a:blip r:embed="rId2"/>
          <a:stretch/>
        </p:blipFill>
        <p:spPr>
          <a:xfrm>
            <a:off x="1905120" y="2819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U_2750~1"/>
          <p:cNvPicPr/>
          <p:nvPr/>
        </p:nvPicPr>
        <p:blipFill>
          <a:blip r:embed="rId3"/>
          <a:stretch/>
        </p:blipFill>
        <p:spPr>
          <a:xfrm>
            <a:off x="3581280" y="3809880"/>
            <a:ext cx="3181320" cy="227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U_3887~2"/>
          <p:cNvPicPr/>
          <p:nvPr/>
        </p:nvPicPr>
        <p:blipFill>
          <a:blip r:embed="rId4"/>
          <a:stretch/>
        </p:blipFill>
        <p:spPr>
          <a:xfrm>
            <a:off x="5810400" y="4572000"/>
            <a:ext cx="3333600" cy="2228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大篇幅描写日落时的景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一是给读者具体直观的印象，因为并不是每一位读者都见到了文章所描写的种种景象，或者有的读者熟视无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二是引出本文的说明对象，为下文的说明作铺垫，对落日的描写，也让文章更加生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文章解释落日幻觉的顺序与描写落日幻觉的顺序为什么不同？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963000" y="2286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落日的大小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57240" y="3657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落日形状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22600" y="52578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落日时天空光彩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260720" y="1447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描写落日情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1828800" y="2895480"/>
            <a:ext cx="0" cy="83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1828800" y="4343400"/>
            <a:ext cx="0" cy="838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5920560" y="1447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说明落日科学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5540760" y="22557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落日颜色变化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702400" y="3581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落日时天空光彩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5394600" y="52578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太阳形状及大小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6553080" y="2895480"/>
            <a:ext cx="0" cy="838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6553080" y="4267080"/>
            <a:ext cx="0" cy="838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380880" y="1523880"/>
            <a:ext cx="762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方正姚体"/>
              </a:rPr>
              <a:t>落日的幻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841560" y="1219320"/>
            <a:ext cx="36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颜色：深黄，殷红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方正姚体"/>
              </a:rPr>
              <a:t>——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红、黄光穿透力强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918080" y="2743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光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709440" y="2106720"/>
            <a:ext cx="38779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方正姚体"/>
              </a:rPr>
              <a:t>暗弧，亮弧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方正姚体"/>
              </a:rPr>
              <a:t>——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方正姚体"/>
              </a:rPr>
              <a:t>地面及大气层的弯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方正姚体"/>
              </a:rPr>
              <a:t>紫光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方正姚体"/>
              </a:rPr>
              <a:t>——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方正姚体"/>
              </a:rPr>
              <a:t>人眼的叠合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948400" y="4114800"/>
            <a:ext cx="26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形状：变扁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方正姚体"/>
              </a:rPr>
              <a:t>——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大气折射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492280" y="510552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大小：变大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方正姚体"/>
              </a:rPr>
              <a:t>——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方正姚体"/>
              </a:rPr>
              <a:t>大小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2819520" y="22860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1447920" y="1447920"/>
            <a:ext cx="228600" cy="3962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47640" y="58320"/>
            <a:ext cx="2057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观察日出或日落，然后写一段描写文字。 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提示：写描写文字时，可以按日出（落）前→日出（落）时→日出（落）后的顺序写出特点。注意交代清楚自己的观察点，既要抓住太阳的静态特点，也要注意日出（落）时形状、颜色、光线等方面的变化，同时还可以进行适当的联想和想象。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-12600"/>
            <a:ext cx="2057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04920" y="6858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们在黎明的曙色中等待了大约半个钟头，才看到旭日露出小小的一角，辉映着朝霞，赛似刚从高炉里倾泻出来的钢水，光芒四射，令人不敢张开眼睛直视。过了一会儿，红日冉冉上升，光照云海，五彩缤纷，灿若锦绣。那时恰好有一股强劲的山风吹来，云烟四散，峰壑松石，在彩色的云海中时隐时现，瞬息万变，犹如织锦上面的装饰图案，每幅都换一个样式。这样的景色霞光，我们就是在彩色图片和彩色电影中也很难看得到的。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             </a:t>
            </a:r>
            <a:r>
              <a:rPr b="0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黄秋耘</a:t>
            </a:r>
            <a:r>
              <a:rPr b="0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黄山秋行</a:t>
            </a:r>
            <a:r>
              <a:rPr b="0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680" y="-258840"/>
            <a:ext cx="236232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资料助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0040" y="57132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散射： 散射也是一种反射，只是光从粗糙不平的表面以多种不同角度弥漫式反射。事实上，由于表面不平坦，入射的光以许多不同的角度被反射。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U_4100~1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714240" y="2714760"/>
            <a:ext cx="7848720" cy="3581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3352680" y="6278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光的散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23619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资料助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折射：当光波从一种介质传播到另一种介质，它的速度和方向都可能发生改变。比如从空气到玻璃（即从小密度介质往大密度介质传播），光的速度会减慢，而且如果光是以某个非垂直角度入射到玻璃，那么它射出的方向也会改变，即常说的折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U_3334~1"/>
          <p:cNvPicPr/>
          <p:nvPr/>
        </p:nvPicPr>
        <p:blipFill>
          <a:blip r:embed="rId1"/>
          <a:stretch/>
        </p:blipFill>
        <p:spPr>
          <a:xfrm>
            <a:off x="5148360" y="1197000"/>
            <a:ext cx="3809880" cy="333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U_1378~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32360" y="4667400"/>
            <a:ext cx="388620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9e203038652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03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3434_2hoYft5oYo7n5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光的折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22100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自主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自读课文，圈点课文中的生字词。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收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敛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（         ）   宽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恕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（      ）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绮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丽（         ）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殷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红（       ）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蔚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蓝（         ）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旭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日（       ）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尘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埃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（         ）   气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奄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奄（       ）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905120" y="2209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li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5031000" y="21780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sh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057400" y="3048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181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y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907640" y="39625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w è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259240" y="39625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x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2133720" y="4876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ā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6019920" y="4768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yǎ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理解课文中的重点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5562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变化多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日薄西山，气息奄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夕阳无限好，只是近黄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绮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53280" y="132552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形容变化极多。也指变化很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2286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语出晋李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陈情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日暮西山，意思是太阳快要落山了，比喻衰老的人即将死亡或腐朽的事物即将没落。薄，迫近、靠近。气息奄奄，形容呼吸微弱，快要断气的样子，也比喻腐朽的事物即将没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533520" y="41148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语出唐李商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登乐游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意思是虽然夕阳无限美好，可惜的是已接近黄昏时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763440" y="60199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颜色美丽，多用来形容风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76360" y="115920"/>
            <a:ext cx="2438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初步感知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快速默读课文，试用一句话概括本文内容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1066680" y="3505320"/>
            <a:ext cx="7467480" cy="1904760"/>
            <a:chOff x="1066680" y="3505320"/>
            <a:chExt cx="7467480" cy="1904760"/>
          </a:xfrm>
        </p:grpSpPr>
        <p:sp>
          <p:nvSpPr>
            <p:cNvPr id="75" name="AutoShape 6"/>
            <p:cNvSpPr/>
            <p:nvPr/>
          </p:nvSpPr>
          <p:spPr>
            <a:xfrm>
              <a:off x="1066680" y="3505320"/>
              <a:ext cx="7467480" cy="1904760"/>
            </a:xfrm>
            <a:prstGeom prst="roundRect">
              <a:avLst>
                <a:gd name="adj" fmla="val 16667"/>
              </a:avLst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>
              <a:off x="1523880" y="3657600"/>
              <a:ext cx="6629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文章介绍了落日的幻觉这类自然现象及其产生的原因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）落日的幻觉集中在哪个小节？落日的幻觉具体有哪些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产生这些幻觉的原因分别是什么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集中在第</a:t>
            </a:r>
            <a:r>
              <a:rPr b="0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节，具体见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U_1590~1"/>
          <p:cNvPicPr/>
          <p:nvPr/>
        </p:nvPicPr>
        <p:blipFill>
          <a:blip r:embed="rId1"/>
          <a:stretch/>
        </p:blipFill>
        <p:spPr>
          <a:xfrm>
            <a:off x="1143000" y="228600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7:16:49Z</dcterms:created>
  <dc:creator> </dc:creator>
  <dc:description> </dc:description>
  <cp:keywords/>
  <dc:language>en-US</dc:language>
  <cp:lastModifiedBy>Administrator</cp:lastModifiedBy>
  <dcterms:modified xsi:type="dcterms:W3CDTF">2014-11-04T03:37:37Z</dcterms:modified>
  <cp:revision>2</cp:revision>
  <dc:subject>  </dc:subject>
  <dc:title>  </dc:title>
</cp:coreProperties>
</file>